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C7A-7C34-4708-9907-2AFE0281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AA5-3E43-4E78-B036-FD89738C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2E8-B6E3-406A-823F-52D9E708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A63-3A8A-4D9B-AF31-25098FB0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AA0-03C8-474F-8374-0A7AD79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8898-FEFA-4589-B5A0-1BB0DA7C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8FD-C22C-4732-BF23-705BA579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D78-F309-479C-8BF2-64F25994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ED9-1ACA-4A82-909E-513DBF9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D00-6846-4CFD-8C6A-EA58F217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E03-FC70-43F0-9A99-A23C4ACB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BB4-18EC-419A-A320-C21A5C41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59EF-5FA1-42D1-808A-45C4B7E04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508720" y="1557360"/>
            <a:ext cx="561960" cy="722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s9b2</cp:lastModifiedBy>
  <dcterms:modified xsi:type="dcterms:W3CDTF">2012-06-19T10:51:58Z</dcterms:modified>
  <cp:revision>30</cp:revision>
  <dc:subject/>
  <dc:title>SALARIUL</dc:title>
</cp:coreProperties>
</file>